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A26-E3AE-417A-BB12-F755F355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55E-6D78-427D-AD2C-8CA4820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58B-FEAA-417A-A346-DC852E47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B06-CE2E-4E1D-BE60-9F9C5218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6C8-14A9-4724-8694-D74C69E6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AAC-72EE-440F-9114-6EFEF98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9B4-04BC-43BC-942B-2C980752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BCF-E213-4DAF-9A01-7E570A02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38A-A99C-497E-A40E-37B8AF8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717-3D01-4DBF-B923-496DEF7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CE4-690D-41E8-A85B-568AE9DB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B0B-CFD0-4275-BFB3-A0EEDCF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897F-CF7B-460B-9EDA-7CD937FCE29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BFE0-01CE-456F-BFDA-6DCB61C53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3920" y="1413000"/>
            <a:ext cx="8550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ходе 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граммы по созданию и приме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ежгосударственных стандартных образ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остава и свойств веществ и матери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2011 – 2015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021c88"/>
              </a:gs>
              <a:gs pos="100000">
                <a:srgbClr val="008e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5092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нформация о СО, разработанных по Программ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оторые будут представлены для рассмотрения 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х признания в качестве МСО на 42‑е заседание НТК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3141720"/>
          <a:ext cx="6624720" cy="2419200"/>
        </p:xfrm>
        <a:graphic>
          <a:graphicData uri="http://schemas.openxmlformats.org/drawingml/2006/table">
            <a:tbl>
              <a:tblPr/>
              <a:tblGrid>
                <a:gridCol w="432000"/>
                <a:gridCol w="1089000"/>
                <a:gridCol w="2639880"/>
                <a:gridCol w="246384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озиция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омер по националь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еестру 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аименование 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grid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оссийская Федерация, разработчик – ФГУП «ВНИИМ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ГСО 9574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О дифракционных свойств кристаллической реше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гексаборид лантана)  ПРФ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Прямоугольник 4"/>
          <p:cNvSpPr/>
          <p:nvPr/>
        </p:nvSpPr>
        <p:spPr>
          <a:xfrm>
            <a:off x="900000" y="1413000"/>
            <a:ext cx="69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За период, прошедший после 47-го заседания МГС, в рамках Программы по созданию и применению межгосударственных стандартных образцов состава и свойств веществ и материалов на 2011–2015 годы  специалистами  Российской  Федерации представлен 1 тип национального СО для рассмотрения возможности признания в качестве МСО на 42-е заседание НТКМет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50920" y="69228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щая информация по ре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рограммы по созданию и применению межгосударственных стандартных образцов состава и свойств веществ и материалов на 2011–2015 г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5"/>
          <p:cNvSpPr/>
          <p:nvPr/>
        </p:nvSpPr>
        <p:spPr>
          <a:xfrm>
            <a:off x="611280" y="5445000"/>
            <a:ext cx="8231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работано 88 типов национальных С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реди них Республика Казахстан – 5 типов, Россия – 76 типов,  Украина – 7 тип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66"/>
          <p:cNvGraphicFramePr/>
          <p:nvPr/>
        </p:nvGraphicFramePr>
        <p:xfrm>
          <a:off x="1187280" y="2133720"/>
          <a:ext cx="604548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04548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79280" y="256536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ие сведения о результатах выполнения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ведены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Объект 1"/>
          <p:cNvGraphicFramePr/>
          <p:nvPr/>
        </p:nvGraphicFramePr>
        <p:xfrm>
          <a:off x="755640" y="3500280"/>
          <a:ext cx="803736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803736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Прямоугольник 3"/>
          <p:cNvSpPr/>
          <p:nvPr/>
        </p:nvSpPr>
        <p:spPr>
          <a:xfrm>
            <a:off x="179280" y="635040"/>
            <a:ext cx="8704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аботы по ряду других позиций продолжаются со сроком исполнения 2015 год, по ряду позиций сроки исполнения перенесены в проект Программы на 2016-2020 годы, по некоторым позициям авторы сообщили о невозможности их исполнения по тем или иным причинам. Среди причин можно назвать отсутствие финансирования, отсутствие спроса, недостаточное количество участников аттестационных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ов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04:52:37Z</dcterms:created>
  <dc:creator>Илья</dc:creator>
  <dc:description/>
  <dc:language>en-US</dc:language>
  <cp:lastModifiedBy>user</cp:lastModifiedBy>
  <dcterms:modified xsi:type="dcterms:W3CDTF">2015-10-26T06:26:10Z</dcterms:modified>
  <cp:revision>781</cp:revision>
  <dc:subject/>
  <dc:title>Слайд 1</dc:title>
</cp:coreProperties>
</file>